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7E5-6873-4784-A6F7-CB791D71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6E0-892E-4229-8482-8B1A12CE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187-16CF-4616-839B-8CDA7F3E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711-FBE3-4022-8892-F8E60713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C75-1ED2-48DE-9137-519B2264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E59-A2F9-49DA-A319-10DBBCDE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C44-24BA-48DE-B864-1448D540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A3F-58F3-4EEE-BE8C-631857C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BA8-5D3D-4AF8-A6C1-9FBF397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ED9-28C4-4BA4-83B7-1136968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21E-5A65-4538-B53C-DD2881F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6EA-242B-42B4-B1C8-59B85500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0A27-AF83-4213-82E3-C88FB398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3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Cuántos añ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Cuántos herman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ienen Uds. un perro o un g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212400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320" y="1208160"/>
            <a:ext cx="222876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05320" y="1295280"/>
            <a:ext cx="17222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629400" y="1295280"/>
            <a:ext cx="192420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2171880" cy="210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77120" y="4419720"/>
            <a:ext cx="2590560" cy="172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666880" y="4343400"/>
            <a:ext cx="143676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440" y="306216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ontent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400" y="3519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l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4120" y="313848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8240" y="32148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oj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1080" y="61866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ervios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9200" y="58053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anquil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28520" y="60339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ferm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38200" y="618660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ns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361960" cy="1841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4267080" cy="3417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2590920" cy="2500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0760" y="198108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410080" y="762120"/>
            <a:ext cx="9144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05160" y="213336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14400" y="0"/>
            <a:ext cx="21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fie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f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6680" y="9144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calen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temper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1644480"/>
            <a:ext cx="1942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calofr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hi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3200400"/>
            <a:ext cx="914400" cy="3808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5600" y="3048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gr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he F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523880" y="41148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840" y="34290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Resf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1120" y="396252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t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867280"/>
            <a:ext cx="2667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Guardar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tay in b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5410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41000" y="289548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9440" y="518148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añ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9080" y="571500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Klee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59000" y="5653080"/>
            <a:ext cx="17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2880" y="6033960"/>
            <a:ext cx="13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0840" y="2604960"/>
            <a:ext cx="31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71432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11480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781680" y="3505320"/>
            <a:ext cx="182088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6400" y="27432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garg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19360" y="290988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estoma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320" y="595800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cab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1960" y="5334120"/>
            <a:ext cx="2741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buen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goo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4600" y="5226120"/>
            <a:ext cx="259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al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ba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lab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2-43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0:06:20Z</dcterms:created>
  <dc:creator>Helen Zumaeta</dc:creator>
  <dc:description/>
  <dc:language>en-US</dc:language>
  <cp:lastModifiedBy>Helen Zumaeta</cp:lastModifiedBy>
  <dcterms:modified xsi:type="dcterms:W3CDTF">2011-04-07T02:00:30Z</dcterms:modified>
  <cp:revision>3</cp:revision>
  <dc:subject/>
  <dc:title>Me llamo __________ Clase 7 IM La fecha es el 7 de abril del 2011</dc:title>
</cp:coreProperties>
</file>